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wmf" ContentType="image/x-wmf"/>
  <Override PartName="/ppt/media/image13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7D4C-3960-4CA9-A4B6-9CE4DB46B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D96-0E55-498E-BC11-8D888A7E4F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ve agre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C78-9FE0-459A-803C-7782057A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077-7259-43F6-B852-D7AD8E2C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4AE-A357-40EF-B08A-86CF6244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584F-93D2-4FF6-BCD7-03EA546D9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5FCD-EE95-4321-992B-D006271F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9429-D452-4C30-9444-B193119A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D575-0D59-4B18-9996-144A0C35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E539-5DB8-40A2-9D1A-4934438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DB80-6273-4468-935E-9C07BAE7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6E5D-32E3-458D-BA50-CC4EF742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2CDC-4FC5-4D3F-9826-44FEAB9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CE7-D0CA-4C13-AFB8-88C0006D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A57B-4DE5-4D97-8586-7F3AE32D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D3DB-2C99-49B3-91B6-A75103C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B0C-3FF4-431E-A649-51D5CFBD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DDF-A079-4B60-B578-3E2CD04F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1B7E-5A24-404E-9BE6-AD908C5B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CFE-02CD-4DD8-A917-B66A518F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B6A-8A2E-4BAE-AA0D-471DF245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914-BCD8-4DF5-8340-29766789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C1A5-9985-456D-AA65-30B3BDB8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AA29-7F57-48DA-8237-45BF14D1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F5E-CC2F-4F51-BDE5-10675CAD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7D1-BC80-4572-BC62-0895A9A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AD5A-7B48-4B0D-B03C-3B746FE94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FEE2-34D4-4479-8D26-5CBE795972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554-A867-41F8-9A66-45DE584C49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ACHERS’ LEGAL ISSU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 FINAL FEW WO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AB09-3AAB-4E56-BBA0-B1B10CD5D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AYOFF AND RECALL - Art.48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 WITH LEAST SENIORITY LAID OFF BEFORE OTHERS AS LONG AS REMAINING TEACHERS CAN SATISFACTORILY FULFILL THE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7CE7-73A8-4ADF-A0EA-2AFB8BF709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PERIENCE FOR SALARY - 5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REDIT -TAUGHT IN PUBLIC SCHOOLS WHILE LICENSED OR ELIGIBLE IN N.B. OR BECOMES LICENSED IN N.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/2 CREDIT -TAUGHT IN PRIVATE SCHOOL IN CANADA WHILE ELIGIBLE IN N.B.OR UPTO 2 YEARS APPROVED RELATED EX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CBDF-23C1-43BA-B176-55170145D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CIPLINE - 5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TEACHER SHALL BE DISCIPLINED, SUSPENDED, DISMISSED OR ASSESSED A FINANCIAL PENALTY</a:t>
            </a:r>
            <a:br>
              <a:rPr sz="3200"/>
            </a:br>
            <a:br>
              <a:rPr sz="3200"/>
            </a:b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XCEPT FOR JUST CA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7F46-F93B-48EA-BBAE-36724AEAA8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IEVANCE - 57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RIEVANCE IS A DISPUTE OR DIFFERENCE OF OPINION CONCER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ATION OR VIOLATION OF    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MISSAL, SUSPENSION OR FINANCIAL PENAL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B4F-1189-4AE8-AAE7-631333984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RA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ARTIES AGREE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WILL BE PAID AND WIL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DILIGENTLY AND FAITHFULLY AND PERFORM THEIR DUTIES IN ACCORDANCE WITH THE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ION A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VISIONS OF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0A37-6C63-404D-8739-44F8143CD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F YOU FIND YOURSELF IN TROUB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467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9E01-4D17-4A1B-B2F6-E201264F3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IS  AVAILABLE 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65320" y="1981080"/>
            <a:ext cx="6811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DED4-91A2-4335-A628-CF89A6420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OU ARE NOT ALONE NBTA/NBT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5560" y="2514600"/>
          <a:ext cx="9118440" cy="31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2514600"/>
                    <a:ext cx="9118440" cy="31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E4D0-9CF7-4606-9B31-D08277FF1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O YA GONNA CALL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SCHOOL REP/GRIEV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BRANCH PRESIDEN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NBTA/NBTF STAF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452-892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0" y="1905120"/>
          <a:ext cx="419112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1397-28DE-422A-A3FA-24458ED5F2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YTHING OTHER THAN THE AGREEMENT CALL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52-892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Picture 1027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7853-5BE4-4BD4-B158-1F74CFD67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45464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COLLECTIVE AGREEME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27D-3126-4821-A73E-5F369C841B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337440" cy="4330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L CONTACT WITH STUDENTS BASED UPON TRUST RELATIONSHI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FF4-5800-43C2-A828-68DAD4FC2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GAL ASSISTANCE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MAY RECEIVE LEGAL ADVICE AND/OR ASSISTANCE FOR ANY INCIDENT WITHIN THE SCOPE OF EMPLOY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IDENTS MAY INCLUDE CRIMINAL CHARGES, LAW SUIT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GOING HARASSMENT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6172200" y="4572000"/>
          <a:ext cx="29718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4572000"/>
                    <a:ext cx="29718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9A14-5B34-4ACE-B226-140A0AB07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EGAL ADV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SOON AS YOU BECOME AWARE OF A POTENTIAL LEGAL PROBLE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 NOTIFY YOUR ADMINISTRATIO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 MAKE SURE DISTRICT OFFICE KN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 CALL NBTA - BOB FITZPATR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28F5-A4DE-4B88-B614-2000490B3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TECT YOURSELF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DATE PUP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STRIKE OR PHYSICALLY HANDLE PUPILS EXCEPT TO DEF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ON DUTY/SUPERVISION WHEN ASSIGNED AND BE REASONABLY VIGIL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NDLE STUDENT MONEY WITH YOUR TRUST RELATIONSHIP IN MI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980A-694C-4FC6-98CE-E1F5307C9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PLOYER PROTE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LOYER WILL DEFEND, NEGOTIATE, SETTLE AND PAY ALL COSTS RELATED TO A LAWSUIT AGAINST YOU WHICH STEMS FROM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OPE OF YOUR EMPLOYM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S LONG AS YOU HAVE ACTED I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FA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2421000" cy="14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5982-F070-454E-B746-DD165BC919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ORTANT POLIC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701 -- PUPIL PROTECTION POLICY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POSITION OF TRU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VIOLATIORS WILL BE DISCIP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311 -- USE OF INT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USE FOR LEGITIMATE PURP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INAPPROPRIATE 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0LICY 703 -- POSITIVE LEARNING ENVIRONMENT = SCHOOL AUTHO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486-EC48-4BA5-96F5-88D151E45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DE OF PROFESSIONAL CONDUC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IN LEGI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PREPARED TO JUDGE AND BE JUDGED BY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77F-3939-4984-BDD3-6BD98E2B0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MANDING PROFES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protect yourself by understanding the rights responsibilities and duties of a teac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572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8BEF-9C3D-4478-817E-F692DF7D6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UT EXTREMELY REWARD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2859120" y="1981080"/>
            <a:ext cx="342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FC5-EB10-4902-8C6F-B78BA4DFE1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R JOB AS WELL AS YOU 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YOURSELF AS A PROFESS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 TO THE SUPPORT SYSTEM WHEN YOU HAVE A QUES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ALMOST ALL OF THE PEOPLE YOU WILL DEAL WITH HAVE BEEN THROUGH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5A57-36C4-41C2-81A2-CF48C123D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LLECTIVE BARGAIN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86040"/>
            <a:ext cx="86104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COLLECTIVE AGREEMENT FOR ALL TEACHERS IN N.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GOTIATIONS  PROCEED UNDER THE TERMS OF 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UBLIC SERVICE LABOR RELATIONS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SIONS APPLY TO ALL TEACHERS AND THE EMPLOYER (DIST.s &amp; DEP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FF94-41A5-43F7-934E-E35A2B647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VE A GREAT CAREER - AND PAUSE TO ENJOY IT REGULAR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37A-5B99-4AAB-8D44-273E11816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OME IMPORTANT ARTIC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- Art.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SIZE - Art. 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CK LEAVE - Art. 3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YOFFS AND RECALL - Art.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OVEMENT IN CERTIFICATION - Art.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RIENCE FOR SALARY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t. 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CIPLINE - Art. 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IEVANCE - Art. 5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T, SALARY,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Object 1028"/>
          <p:cNvGraphicFramePr/>
          <p:nvPr/>
        </p:nvGraphicFramePr>
        <p:xfrm>
          <a:off x="6095880" y="4114800"/>
          <a:ext cx="25146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114800"/>
                    <a:ext cx="25146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42AD-FD2B-4D8A-88C1-40F417C309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PPLICATION - Art. 6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7631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REEMENT APPLIES TO AND IS BINDING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FE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ALL TEACHERS EMPLOYED BY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NTRACT IN ANY SCHOOL IN N.B. UNDER THE JURISDICTION OF THE DEPARTMENT O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THE EMPLOYER AND REPRESENT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4431-B91F-4D2C-8A39-7F17837FE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MPLOYER’S RESPONSIBIL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280" y="1885680"/>
            <a:ext cx="8839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MPLOYER IS VESTED WITH THE RESPONSIBILITY OF MANAGING THE PUBLIC SCHOOL SYSTEM INCLUD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RING, PROMOTING, TRANSFERRING, SUSPENDING, DISCIPLINING, DISMISSING OR LAYING OFF TEACHER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TO THE SPECIFIC PROVISIONS OF THE COLLECTIV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3203-8501-4806-9608-BE13B9208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 LEGISLATION - Art. 12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ACT (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DUCATION A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THE PROVINCE HAS PRECEDENCE OVER THE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GREEMENT HAS PRECEDENCE OVER CONFLICTING REGU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CF43-A7AD-4693-BD3E-A1956152B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 SIZE - Art. 20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(currently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MAL CLASS SIZE 27 WITH NO CLASS LARGER THAN 30, B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NDERGARTEN -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S 1 &amp; 2 -     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 3 - 27 ( UNFORSEEN = 2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DES 4-6 - 29 ( UNFORSEEN =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BINED CLASSES 1-3=17, 3-5=24, 5-12=25 WHILE ANY GRADE COMBONED WITH K = 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LUSION OF SPECIAL NEEDS STUDENTS SHAL [ALSO] BE CONSIDE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 1, 2009 – MAX AT EACH GRADE LEVEL REDUCED BY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8921-FF7C-4A72-AB1C-FC44818BE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CK LEAVE - Art. 3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1/2 DAYS PER MONTH TO 19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OTHER ARTICLES RELATED TO LEAVE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COMPASSIONATE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MATERNITY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ADOPTION LEAV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OTHER ABSENCES 34, 35, 36,AND 3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6:23:46Z</dcterms:created>
  <dc:creator>Bob Fitzpatrick</dc:creator>
  <dc:description/>
  <dc:language>en-US</dc:language>
  <cp:lastModifiedBy>Owner</cp:lastModifiedBy>
  <cp:lastPrinted>2003-10-27T15:44:30Z</cp:lastPrinted>
  <dcterms:modified xsi:type="dcterms:W3CDTF">2011-04-03T18:40:46Z</dcterms:modified>
  <cp:revision>12</cp:revision>
  <dc:subject/>
  <dc:title>TEACHERS’ LEGAL ISSUES</dc:title>
</cp:coreProperties>
</file>